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6B3-F65E-4989-B6C8-290E8C5D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00B-90CC-418A-9A5F-1A4BFF97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723-2310-4093-8010-5F70E949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46B-5C55-493D-8DE3-2F1D2370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5D1-6171-409F-A732-05B13522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845-29BC-4482-90A0-586F6C1A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B11-419A-461A-84A9-18E2F303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E50-77D4-441B-A4E4-7021024D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01C-031F-4EEA-82B1-1507F95A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354-C8A7-4AC6-8600-259F3C4B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9ED-0044-460B-9AA5-049AA20C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EF7-7CC7-4868-B98A-92999DF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9A88-6480-42E8-88DD-5C96E0841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gitl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22:28:18Z</dcterms:created>
  <dc:creator> </dc:creator>
  <dc:description/>
  <dc:language>en-US</dc:language>
  <cp:lastModifiedBy> </cp:lastModifiedBy>
  <dcterms:modified xsi:type="dcterms:W3CDTF">2009-06-08T22:28:31Z</dcterms:modified>
  <cp:revision>1</cp:revision>
  <dc:subject/>
  <dc:title>Digitl story</dc:title>
</cp:coreProperties>
</file>